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CB1C-2232-4CFE-95E8-D34B56409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0E63-92BD-4662-9A9B-2743370A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A72E-CF7B-499A-8568-C4706C5BD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7D48-4B5B-4A4D-96E2-77691A1D5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424F-DE16-4CFC-A0BC-0F9892DB8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F926-B500-4069-92FA-81C09189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3665-89F1-4282-9CCC-ECAB8792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5B48-9C9A-45E7-98B5-0F2F50FD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3CDB-5B14-428D-A6D4-97936A84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0C9E-011D-4C79-8CA4-BC349677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53A5-FA0D-4BA7-8B83-18522F92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09FD-4B17-4235-A0CB-16B36093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C06D-1F6A-4D30-9A64-3F689D90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AAA0-10D2-4F27-84E6-A44EE83D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A0CE-D38B-4C6C-AE9A-B175EF13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AD61-E00B-4E50-B169-A4D6A5971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AB24-64C6-4010-AE30-3183863F2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D0C2-586F-4983-8A9B-2CAB0946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DD07-2FAE-456A-8207-7F774EF5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16D2-C6AE-44F8-A4B9-13077149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645F-1516-4DEE-B296-06089A06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35F2-BC1D-4D93-BC59-AAEA8D6E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1034-7C70-46ED-B939-AC40446E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2529-35AF-4676-AC47-8E71F071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ECF4-4A69-41BA-9DAB-A8A44588832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F276-46FB-496B-B9C0-E613DC0C75A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he Shock Waves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80880" y="2502000"/>
            <a:ext cx="8458200" cy="34178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33520" y="3443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P Wave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34434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S Wave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4572000"/>
            <a:ext cx="0" cy="6094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38280" y="4572000"/>
            <a:ext cx="0" cy="6094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72200" y="243828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A Seismograph measures the intensity of earthquak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he Shock Waves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80880" y="2502000"/>
            <a:ext cx="8458200" cy="34178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33520" y="3443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P Wave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34434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S Wave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3443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L Wave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4572000"/>
            <a:ext cx="0" cy="6094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4572000"/>
            <a:ext cx="0" cy="6094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4343400"/>
            <a:ext cx="0" cy="6094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72200" y="243828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A Seismograph measures the intensity of earthquak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876920" y="2093760"/>
            <a:ext cx="42670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Verdana"/>
              </a:rPr>
              <a:t>By measuring the time between waves, scientists can figure out how far away the quakes wa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Verdana"/>
              </a:rPr>
              <a:t>At least 3 stations around the world are needed to determine exactly where the earthquake occurred (a process called triangulation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he Shock Waves</a:t>
            </a:r>
            <a:endParaRPr b="0" lang="en-US" sz="51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724280" y="2093760"/>
            <a:ext cx="44197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Verdana"/>
              </a:rPr>
              <a:t>The Richter Scale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Verdana"/>
              </a:rPr>
              <a:t>A scale of magnitude developed by Gutenberg and C.F. Richter in 1935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Verdana"/>
              </a:rPr>
              <a:t>Scale is logarithmic (e.x. 4 on the Richter Scale is 10 times more powerful than a 3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Verdana"/>
              </a:rPr>
              <a:t>Significant damage usually occurs at 5 and above on the scal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he Shock Waves</a:t>
            </a:r>
            <a:endParaRPr b="0" lang="en-US" sz="51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2577960"/>
            <a:ext cx="4267080" cy="2832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Death &amp; Destruction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6019560" cy="38037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553080" y="2093760"/>
            <a:ext cx="23623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Verdana"/>
              </a:rPr>
              <a:t>What factor(s) increase the death tol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Verdana"/>
              </a:rPr>
              <a:t>What factor(s) increase the probability of property damage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What Do You Know About Earthquakes?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3520" y="3200400"/>
            <a:ext cx="4457520" cy="301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 – The Focus and the Epicenter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4294440" cy="4495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876920" y="2133720"/>
            <a:ext cx="403848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Earthquak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Sudden massive fracturing of rock along a distinct fault plane. The movement is termed </a:t>
            </a: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STICK-SLIP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 – The Focus and the Epicenter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4294440" cy="44956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876920" y="2133720"/>
            <a:ext cx="40384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Earthquak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STICK -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Great stress is built up.  Rocks are able to stick due to interlocking of the grains of which they are built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 – The Focus and the Epicenter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4294440" cy="44956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876920" y="2133720"/>
            <a:ext cx="403848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Earthquak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SLIP –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When stresses are too great the plates slip past each othe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 – The Focus and the Epicenter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4294440" cy="44956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876920" y="2133720"/>
            <a:ext cx="4038480" cy="36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Earthquak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ENERGY RELEASE –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Expanded in the form of “shock waves”.  Waves travel from the point of slippage (focus) though rock either along the surface or directly through the earth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he Shock Waves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52280" y="1803240"/>
          <a:ext cx="60534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803240"/>
                    <a:ext cx="60534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315040" y="3548160"/>
            <a:ext cx="3676680" cy="3157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he Shock Waves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8458200" cy="3417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172200" y="243828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A Seismograph measures the intensity of earthquak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he Shock Waves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0880" y="2502000"/>
            <a:ext cx="8458200" cy="3417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33520" y="3443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P Wave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4572000"/>
            <a:ext cx="0" cy="6094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243828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A Seismograph measures the intensity of earthquak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1:31:29Z</dcterms:created>
  <dc:creator>Customer</dc:creator>
  <dc:description/>
  <dc:language>en-US</dc:language>
  <cp:lastModifiedBy>Peter Grant</cp:lastModifiedBy>
  <dcterms:modified xsi:type="dcterms:W3CDTF">2012-02-24T02:53:08Z</dcterms:modified>
  <cp:revision>31</cp:revision>
  <dc:subject/>
  <dc:title>Slide 1</dc:title>
</cp:coreProperties>
</file>